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392-17A0-413B-ACE1-5506705B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0D0-E1B6-467A-A8EF-1194B216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F33-F241-464F-94A5-CB85C628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539-A12E-4E04-A707-AE492F0A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39B4-E7F2-49FC-A27E-F7904C36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0DEC-4B08-4B93-AC06-3BE79D2E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982B-3475-4775-9F11-7DAB91A7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6CA7-3CC9-49C0-BCFD-BCB3A3E5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7DEF-9105-4B5E-922B-2BE7F87A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BDA0-F2C5-4D95-B00A-CB6E43F4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8EEB-1F6D-4995-9FC8-22B9528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512-97BE-442A-AA0B-AF3A1C24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948C-433D-4B7D-AD4E-77C3DF9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B3D9-4D01-4893-ACA9-00BC12D8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8F77-B07D-4401-B81A-B0C39448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4896-6A22-43F1-B9F1-7E7F1D97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D175-7AB3-4DB1-A1DC-E0A662C4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02A-00C8-4FC8-970B-AA79A2CC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2BB-DA7D-4778-9AAF-462BACA5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E9E-2BBF-4FA0-B0D5-2561DAD6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26E-18A2-4651-A699-34A6C6C7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D3E-27C6-463F-9019-435DE918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2A2-7EA1-40ED-92E0-A59198D4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FE6-1A2F-49A5-A484-71D38AD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948-C2F3-4300-8130-EB1C2483FE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130-A071-4048-AC34-93037EA8EC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schools/wordsandpictures/hfwords/starwords/index.shtml" TargetMode="External"/><Relationship Id="rId2" Type="http://schemas.openxmlformats.org/officeDocument/2006/relationships/image" Target="../media/image3.wmf"/><Relationship Id="rId3" Type="http://schemas.openxmlformats.org/officeDocument/2006/relationships/slide" Target="slide2.xml"/><Relationship Id="rId4" Type="http://schemas.openxmlformats.org/officeDocument/2006/relationships/hyperlink" Target="http://www.starfall.com/n/me/me/load.htm?f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hyperlink" Target="http://www.ictgames.com/safecracker.html" TargetMode="External"/><Relationship Id="rId4" Type="http://schemas.openxmlformats.org/officeDocument/2006/relationships/hyperlink" Target="http://www.ictgames.com/spacejumps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6.wmf"/><Relationship Id="rId7" Type="http://schemas.openxmlformats.org/officeDocument/2006/relationships/hyperlink" Target="http://www.bbc.co.uk/schools/laac/numbers/ch3.shtml" TargetMode="External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ictgames.com/plankgame.html" TargetMode="External"/><Relationship Id="rId3" Type="http://schemas.openxmlformats.org/officeDocument/2006/relationships/hyperlink" Target="http://www.harcourtschool.com/activity/word_builder/level2/2_01.html" TargetMode="External"/><Relationship Id="rId4" Type="http://schemas.openxmlformats.org/officeDocument/2006/relationships/hyperlink" Target="http://www.ictgames.com/dinosaurwordsrepeat.html" TargetMode="External"/><Relationship Id="rId5" Type="http://schemas.openxmlformats.org/officeDocument/2006/relationships/image" Target="../media/image8.wm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328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Year 2 </a:t>
            </a:r>
            <a:br>
              <a:rPr sz="4800"/>
            </a:b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Digital Learning Centr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149720"/>
            <a:ext cx="5113440" cy="865080"/>
          </a:xfrm>
          <a:custGeom>
            <a:avLst/>
            <a:gdLst>
              <a:gd name="textAreaLeft" fmla="*/ 0 w 5113440"/>
              <a:gd name="textAreaRight" fmla="*/ 5113800 w 511344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6583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Comic Sans MS"/>
              </a:rPr>
              <a:t>Home Pag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2801880" cy="20131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268360" y="2421000"/>
            <a:ext cx="1152720" cy="100800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700" h="21600">
                <a:moveTo>
                  <a:pt x="0" y="0"/>
                </a:moveTo>
                <a:lnTo>
                  <a:pt x="24700" y="0"/>
                </a:lnTo>
                <a:lnTo>
                  <a:pt x="24700" y="21600"/>
                </a:lnTo>
                <a:lnTo>
                  <a:pt x="0" y="21600"/>
                </a:lnTo>
                <a:close/>
              </a:path>
              <a:path fill="lightenLess" w="24700" h="21600">
                <a:moveTo>
                  <a:pt x="0" y="0"/>
                </a:moveTo>
                <a:lnTo>
                  <a:pt x="24700" y="0"/>
                </a:lnTo>
                <a:lnTo>
                  <a:pt x="23300" y="1400"/>
                </a:lnTo>
                <a:lnTo>
                  <a:pt x="1400" y="1400"/>
                </a:lnTo>
                <a:close/>
              </a:path>
              <a:path fill="darken" w="24700" h="21600">
                <a:moveTo>
                  <a:pt x="24700" y="0"/>
                </a:moveTo>
                <a:lnTo>
                  <a:pt x="24700" y="21600"/>
                </a:lnTo>
                <a:lnTo>
                  <a:pt x="23300" y="20200"/>
                </a:lnTo>
                <a:lnTo>
                  <a:pt x="23300" y="1400"/>
                </a:lnTo>
                <a:close/>
              </a:path>
              <a:path fill="darkenLess" w="24700" h="21600">
                <a:moveTo>
                  <a:pt x="24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0" y="20200"/>
                </a:lnTo>
                <a:close/>
              </a:path>
              <a:path fill="lighten" w="24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2268360" y="3645000"/>
            <a:ext cx="1151280" cy="936360"/>
          </a:xfrm>
          <a:custGeom>
            <a:avLst/>
            <a:gdLst>
              <a:gd name="textAreaLeft" fmla="*/ 60480 w 1151280"/>
              <a:gd name="textAreaRight" fmla="*/ 1090800 w 115128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6556" h="21600">
                <a:moveTo>
                  <a:pt x="0" y="0"/>
                </a:moveTo>
                <a:lnTo>
                  <a:pt x="26556" y="0"/>
                </a:lnTo>
                <a:lnTo>
                  <a:pt x="26556" y="21600"/>
                </a:lnTo>
                <a:lnTo>
                  <a:pt x="0" y="21600"/>
                </a:lnTo>
                <a:close/>
              </a:path>
              <a:path fill="lightenLess" w="26556" h="21600">
                <a:moveTo>
                  <a:pt x="0" y="0"/>
                </a:moveTo>
                <a:lnTo>
                  <a:pt x="26556" y="0"/>
                </a:lnTo>
                <a:lnTo>
                  <a:pt x="25156" y="1400"/>
                </a:lnTo>
                <a:lnTo>
                  <a:pt x="1400" y="1400"/>
                </a:lnTo>
                <a:close/>
              </a:path>
              <a:path fill="darken" w="26556" h="21600">
                <a:moveTo>
                  <a:pt x="26556" y="0"/>
                </a:moveTo>
                <a:lnTo>
                  <a:pt x="26556" y="21600"/>
                </a:lnTo>
                <a:lnTo>
                  <a:pt x="25156" y="20200"/>
                </a:lnTo>
                <a:lnTo>
                  <a:pt x="25156" y="1400"/>
                </a:lnTo>
                <a:close/>
              </a:path>
              <a:path fill="darkenLess" w="26556" h="21600">
                <a:moveTo>
                  <a:pt x="26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56" y="20200"/>
                </a:lnTo>
                <a:close/>
              </a:path>
              <a:path fill="lighten" w="26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2268360" y="4797360"/>
            <a:ext cx="1151280" cy="936720"/>
          </a:xfrm>
          <a:custGeom>
            <a:avLst/>
            <a:gdLst>
              <a:gd name="textAreaLeft" fmla="*/ 60480 w 1151280"/>
              <a:gd name="textAreaRight" fmla="*/ 1090800 w 1151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6546" h="21600">
                <a:moveTo>
                  <a:pt x="0" y="0"/>
                </a:moveTo>
                <a:lnTo>
                  <a:pt x="26546" y="0"/>
                </a:lnTo>
                <a:lnTo>
                  <a:pt x="26546" y="21600"/>
                </a:lnTo>
                <a:lnTo>
                  <a:pt x="0" y="21600"/>
                </a:lnTo>
                <a:close/>
              </a:path>
              <a:path fill="lightenLess" w="26546" h="21600">
                <a:moveTo>
                  <a:pt x="0" y="0"/>
                </a:moveTo>
                <a:lnTo>
                  <a:pt x="26546" y="0"/>
                </a:lnTo>
                <a:lnTo>
                  <a:pt x="25146" y="1400"/>
                </a:lnTo>
                <a:lnTo>
                  <a:pt x="1400" y="1400"/>
                </a:lnTo>
                <a:close/>
              </a:path>
              <a:path fill="darken" w="26546" h="21600">
                <a:moveTo>
                  <a:pt x="26546" y="0"/>
                </a:moveTo>
                <a:lnTo>
                  <a:pt x="26546" y="21600"/>
                </a:lnTo>
                <a:lnTo>
                  <a:pt x="25146" y="20200"/>
                </a:lnTo>
                <a:lnTo>
                  <a:pt x="25146" y="1400"/>
                </a:lnTo>
                <a:close/>
              </a:path>
              <a:path fill="darkenLess" w="26546" h="21600">
                <a:moveTo>
                  <a:pt x="26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6" y="20200"/>
                </a:lnTo>
                <a:close/>
              </a:path>
              <a:path fill="lighten" w="26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13372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64500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56536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4869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867280" y="1916280"/>
            <a:ext cx="1844640" cy="1831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300720" y="6610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5000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dff"/>
                </a:solidFill>
                <a:latin typeface="Comic Sans MS"/>
              </a:rPr>
              <a:t>Reading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2852640"/>
            <a:ext cx="936360" cy="93672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08">
                <a:moveTo>
                  <a:pt x="0" y="0"/>
                </a:moveTo>
                <a:lnTo>
                  <a:pt x="21600" y="0"/>
                </a:lnTo>
                <a:lnTo>
                  <a:pt x="21600" y="21608"/>
                </a:lnTo>
                <a:lnTo>
                  <a:pt x="0" y="21608"/>
                </a:lnTo>
                <a:close/>
              </a:path>
              <a:path fill="lightenLess" w="21600" h="216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8">
                <a:moveTo>
                  <a:pt x="21600" y="0"/>
                </a:moveTo>
                <a:lnTo>
                  <a:pt x="21600" y="21608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8">
                <a:moveTo>
                  <a:pt x="21600" y="21608"/>
                </a:moveTo>
                <a:lnTo>
                  <a:pt x="0" y="21608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8">
                <a:moveTo>
                  <a:pt x="0" y="216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3933720"/>
            <a:ext cx="936360" cy="9352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/>
          </p:cNvPr>
          <p:cNvSpPr/>
          <p:nvPr/>
        </p:nvSpPr>
        <p:spPr>
          <a:xfrm>
            <a:off x="1835280" y="177336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1844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a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2924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rd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4076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rd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2808360" cy="265104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rId3" action="ppaction://hlinksldjump"/>
          </p:cNvPr>
          <p:cNvSpPr/>
          <p:nvPr/>
        </p:nvSpPr>
        <p:spPr>
          <a:xfrm>
            <a:off x="7380360" y="5589720"/>
            <a:ext cx="863640" cy="93492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34920"/>
              <a:gd name="textAreaBottom" fmla="*/ 879120 h 934920"/>
            </a:gdLst>
            <a:ahLst/>
            <a:rect l="textAreaLeft" t="textAreaTop" r="textAreaRight" b="textAreaBottom"/>
            <a:pathLst>
              <a:path w="21600" h="23382">
                <a:moveTo>
                  <a:pt x="0" y="0"/>
                </a:moveTo>
                <a:lnTo>
                  <a:pt x="21600" y="0"/>
                </a:lnTo>
                <a:lnTo>
                  <a:pt x="21600" y="23382"/>
                </a:lnTo>
                <a:lnTo>
                  <a:pt x="0" y="23382"/>
                </a:lnTo>
                <a:close/>
              </a:path>
              <a:path fill="lightenLess" w="21600" h="233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82">
                <a:moveTo>
                  <a:pt x="21600" y="0"/>
                </a:moveTo>
                <a:lnTo>
                  <a:pt x="21600" y="23382"/>
                </a:lnTo>
                <a:lnTo>
                  <a:pt x="20200" y="21982"/>
                </a:lnTo>
                <a:lnTo>
                  <a:pt x="20200" y="1400"/>
                </a:lnTo>
                <a:close/>
              </a:path>
              <a:path fill="darkenLess" w="21600" h="23382">
                <a:moveTo>
                  <a:pt x="21600" y="23382"/>
                </a:moveTo>
                <a:lnTo>
                  <a:pt x="0" y="23382"/>
                </a:lnTo>
                <a:lnTo>
                  <a:pt x="1400" y="21982"/>
                </a:lnTo>
                <a:lnTo>
                  <a:pt x="20200" y="21982"/>
                </a:lnTo>
                <a:close/>
              </a:path>
              <a:path fill="lighten" w="21600" h="23382">
                <a:moveTo>
                  <a:pt x="0" y="233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82"/>
                </a:lnTo>
                <a:close/>
              </a:path>
              <a:path fill="darken" w="21600" h="23382">
                <a:moveTo>
                  <a:pt x="10800" y="4728"/>
                </a:moveTo>
                <a:lnTo>
                  <a:pt x="13376" y="7339"/>
                </a:lnTo>
                <a:lnTo>
                  <a:pt x="13376" y="5598"/>
                </a:lnTo>
                <a:lnTo>
                  <a:pt x="15152" y="5598"/>
                </a:lnTo>
                <a:lnTo>
                  <a:pt x="15152" y="9115"/>
                </a:lnTo>
                <a:lnTo>
                  <a:pt x="17763" y="11691"/>
                </a:lnTo>
                <a:lnTo>
                  <a:pt x="16109" y="11691"/>
                </a:lnTo>
                <a:lnTo>
                  <a:pt x="16109" y="18880"/>
                </a:lnTo>
                <a:lnTo>
                  <a:pt x="5491" y="18880"/>
                </a:lnTo>
                <a:lnTo>
                  <a:pt x="5491" y="11691"/>
                </a:lnTo>
                <a:lnTo>
                  <a:pt x="3837" y="11691"/>
                </a:lnTo>
                <a:close/>
              </a:path>
              <a:path fill="darkenLess" w="21600" h="23382">
                <a:moveTo>
                  <a:pt x="13376" y="7339"/>
                </a:moveTo>
                <a:lnTo>
                  <a:pt x="13376" y="5598"/>
                </a:lnTo>
                <a:lnTo>
                  <a:pt x="15152" y="5598"/>
                </a:lnTo>
                <a:lnTo>
                  <a:pt x="15152" y="9115"/>
                </a:lnTo>
                <a:close/>
              </a:path>
              <a:path fill="darkenLess" w="21600" h="23382">
                <a:moveTo>
                  <a:pt x="9877" y="15190"/>
                </a:moveTo>
                <a:lnTo>
                  <a:pt x="11723" y="15190"/>
                </a:lnTo>
                <a:lnTo>
                  <a:pt x="11723" y="18880"/>
                </a:lnTo>
                <a:lnTo>
                  <a:pt x="16109" y="18880"/>
                </a:lnTo>
                <a:lnTo>
                  <a:pt x="16109" y="11691"/>
                </a:lnTo>
                <a:lnTo>
                  <a:pt x="5491" y="11691"/>
                </a:lnTo>
                <a:lnTo>
                  <a:pt x="5491" y="18880"/>
                </a:lnTo>
                <a:lnTo>
                  <a:pt x="9877" y="1888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/>
          </p:cNvPr>
          <p:cNvSpPr/>
          <p:nvPr/>
        </p:nvSpPr>
        <p:spPr>
          <a:xfrm>
            <a:off x="1835280" y="5084640"/>
            <a:ext cx="936360" cy="9352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5157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6610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dff"/>
                </a:solidFill>
                <a:latin typeface="Comic Sans MS"/>
              </a:rPr>
              <a:t>Math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2189160" cy="2006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1119240" cy="1752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35280" y="198900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/>
          </p:cNvPr>
          <p:cNvSpPr/>
          <p:nvPr/>
        </p:nvSpPr>
        <p:spPr>
          <a:xfrm>
            <a:off x="1835280" y="306864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4"/>
          </p:cNvPr>
          <p:cNvSpPr/>
          <p:nvPr/>
        </p:nvSpPr>
        <p:spPr>
          <a:xfrm>
            <a:off x="1835280" y="414972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1916280"/>
            <a:ext cx="3887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ave the 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umber bonds to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3068640"/>
            <a:ext cx="36734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afe C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Know simple addition facts up to 9+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1640" y="4149720"/>
            <a:ext cx="4032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pace Jump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dding by bridging through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7236000" y="5516640"/>
            <a:ext cx="1081080" cy="865080"/>
          </a:xfrm>
          <a:custGeom>
            <a:avLst/>
            <a:gdLst>
              <a:gd name="textAreaLeft" fmla="*/ 55800 w 1081080"/>
              <a:gd name="textAreaRight" fmla="*/ 1025280 w 10810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91" h="21600">
                <a:moveTo>
                  <a:pt x="0" y="0"/>
                </a:moveTo>
                <a:lnTo>
                  <a:pt x="26991" y="0"/>
                </a:lnTo>
                <a:lnTo>
                  <a:pt x="26991" y="21600"/>
                </a:lnTo>
                <a:lnTo>
                  <a:pt x="0" y="21600"/>
                </a:lnTo>
                <a:close/>
              </a:path>
              <a:path fill="lightenLess" w="26991" h="21600">
                <a:moveTo>
                  <a:pt x="0" y="0"/>
                </a:moveTo>
                <a:lnTo>
                  <a:pt x="26991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1" h="21600">
                <a:moveTo>
                  <a:pt x="26991" y="0"/>
                </a:moveTo>
                <a:lnTo>
                  <a:pt x="26991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1" h="21600">
                <a:moveTo>
                  <a:pt x="26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1" h="21600">
                <a:moveTo>
                  <a:pt x="13496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5" y="10800"/>
                </a:lnTo>
                <a:lnTo>
                  <a:pt x="18805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3" y="10800"/>
                </a:lnTo>
                <a:close/>
              </a:path>
              <a:path fill="darkenLess" w="26991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1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5" y="17989"/>
                </a:lnTo>
                <a:lnTo>
                  <a:pt x="18805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95280" y="981000"/>
            <a:ext cx="168912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7"/>
          </p:cNvPr>
          <p:cNvSpPr/>
          <p:nvPr/>
        </p:nvSpPr>
        <p:spPr>
          <a:xfrm>
            <a:off x="1835280" y="515772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5157720"/>
            <a:ext cx="4032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Ladybug set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dding and subtracting to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6583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Spellin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191484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1908000" y="2133720"/>
            <a:ext cx="865440" cy="7189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6000" h="21600">
                <a:moveTo>
                  <a:pt x="0" y="0"/>
                </a:moveTo>
                <a:lnTo>
                  <a:pt x="26000" y="0"/>
                </a:lnTo>
                <a:lnTo>
                  <a:pt x="26000" y="21600"/>
                </a:lnTo>
                <a:lnTo>
                  <a:pt x="0" y="21600"/>
                </a:lnTo>
                <a:close/>
              </a:path>
              <a:path fill="lightenLess" w="26000" h="21600">
                <a:moveTo>
                  <a:pt x="0" y="0"/>
                </a:moveTo>
                <a:lnTo>
                  <a:pt x="26000" y="0"/>
                </a:lnTo>
                <a:lnTo>
                  <a:pt x="24600" y="1400"/>
                </a:lnTo>
                <a:lnTo>
                  <a:pt x="1400" y="1400"/>
                </a:lnTo>
                <a:close/>
              </a:path>
              <a:path fill="darken" w="26000" h="21600">
                <a:moveTo>
                  <a:pt x="26000" y="0"/>
                </a:moveTo>
                <a:lnTo>
                  <a:pt x="26000" y="21600"/>
                </a:lnTo>
                <a:lnTo>
                  <a:pt x="24600" y="20200"/>
                </a:lnTo>
                <a:lnTo>
                  <a:pt x="24600" y="1400"/>
                </a:lnTo>
                <a:close/>
              </a:path>
              <a:path fill="darkenLess" w="26000" h="21600">
                <a:moveTo>
                  <a:pt x="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0" y="20200"/>
                </a:lnTo>
                <a:close/>
              </a:path>
              <a:path fill="lighten" w="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133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Walk the P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3"/>
          </p:cNvPr>
          <p:cNvSpPr/>
          <p:nvPr/>
        </p:nvSpPr>
        <p:spPr>
          <a:xfrm>
            <a:off x="1908000" y="3068640"/>
            <a:ext cx="865440" cy="7207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3280" y="3068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Word builder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4"/>
          </p:cNvPr>
          <p:cNvSpPr/>
          <p:nvPr/>
        </p:nvSpPr>
        <p:spPr>
          <a:xfrm>
            <a:off x="1908000" y="4797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16360" y="479736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Dinosaur Word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084720" y="692280"/>
            <a:ext cx="1752840" cy="189072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7524720" y="5805360"/>
            <a:ext cx="792360" cy="792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3933720"/>
            <a:ext cx="865440" cy="7207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400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Abc order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6583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4:35:10Z</dcterms:created>
  <dc:creator>Gunn</dc:creator>
  <dc:description/>
  <dc:language>en-US</dc:language>
  <cp:lastModifiedBy>lindal</cp:lastModifiedBy>
  <dcterms:modified xsi:type="dcterms:W3CDTF">2007-05-10T14:07:15Z</dcterms:modified>
  <cp:revision>21</cp:revision>
  <dc:subject/>
  <dc:title>Year 1 and 2  Digital Learning Centre</dc:title>
</cp:coreProperties>
</file>